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271-4DA1-44A9-944D-72D67E6E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426-DC7A-4BEA-B747-AFF20233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E7E73-8F32-40D7-8745-7B731207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5D6B6-631D-452A-BFDD-12A31293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E5B84-172D-4474-9642-6C90DB89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5B482-0660-4878-92A2-531DC686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4D082-D6E0-4531-9E9C-3F49A754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7B7E3-615C-4B3C-8E1D-BFB5204A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476F8-2897-4DA2-84B0-A4CC0EB8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F817F-6F1A-42D3-94AF-BBB34785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0A4BB-66BA-4D87-BDD0-6CA0E664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636BA-E677-4D80-93B7-2F9AC015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D0E-87F8-4F39-B514-A601D2A6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6AF9F-DF04-44AA-9E73-F44C58E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0548F-A58A-4E63-8833-2A178D7F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F8FF0-9037-4C49-82CA-C1119BCD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8B21A-8019-4785-A61B-93B2A98D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675EE-F484-42EB-A101-4E1E99C1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1EAF0-3E2F-4789-88F7-FCDBE10E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39F32-280C-4DF5-A338-8BC4CC39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672D4-598B-4E82-8C56-B3646C16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7DB86-5BD5-403C-9BF9-14BD11BD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EA1AD-4A76-4EF2-A557-90A0744F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30D-8BBF-477E-8E62-07F4872B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99F47-C103-46B6-BF19-8D0FBFCB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79227-C460-46B5-8B1F-70FF7236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D2632-D658-4276-80DA-E149CD6C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636E8-E8E0-4A1C-8318-0EA2C329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047BE-F716-43C8-AA56-D264DD22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66EEC-D279-4F69-AC01-5B0797BF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B6867-316F-4F82-9CA0-95AF743A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7D496-6DDA-4458-BD4D-090ADFA1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F37EC-574A-4594-9FFE-95615882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59620-9414-4B6B-8D1C-7EF825FD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F378-E52B-45D5-8DF0-C107886C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CE28B-AAC5-4C70-8291-04A5F7D6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73BD3-8617-4E2B-8C1A-85239CF0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D5E41-A3E6-4BEF-AE3A-9121A785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0E3E0-8F75-4250-846E-48794624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D8292-2F07-4BAA-8285-847E2088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95417-5315-493E-8ECA-BD769F00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25A5E-F0B4-4118-BC60-E10216AB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64E13-D116-42EA-A026-A24D3B47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BC27F-9B3E-4BE0-8F97-7762D0F2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383C9-CD63-49E6-B368-9A45E951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B121-A0F7-45AA-A5FC-E04B1E27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284D1-4592-4252-BBF8-68614EAD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8DDF7-F580-48DF-8578-DAA5ADEE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23DAE-ECC4-4B10-B596-2AD0732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59EAA-731F-419F-BE7B-59D0F86F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3ACD8-C65C-44DE-B718-9528B000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C67D7-F291-4E18-B6E5-35173374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E5E2F-9B6B-4A2B-A07B-1B6EE13F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9AEC6-4E14-43AC-BDA9-DE7CA3B4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69133-DF8A-4264-9D59-83845D8F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598F5-9B4B-4D42-BDC3-554A87A7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24B2-C32C-4809-A244-C60794D2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13B5A-76B1-4435-A939-C0CB766C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433C6-50C0-4E28-BFC2-0A86A653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E5CBE-2B22-449D-A685-CE679A1D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0E599-1C6C-4064-B25F-7A73EC8F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66345-4C24-4C31-A080-B0531951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61C4D-1AB8-42DC-AD76-4BA91CD3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2C0E3-47EB-44B1-BE14-3382B486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D2827-A052-4BEA-88B7-ECC84116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7A2CC-FBBD-400F-9A23-4147AB20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91BE4-A040-443B-A6BF-CFF017E8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4691-E74A-436F-A0D4-364AFB03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63D48-50AA-443B-AB20-94DC0F9D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6DDB5-7C86-45AD-9764-B1E91DCB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6E0AB-B42C-464A-A9BD-E7240645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1C127-840D-4B82-A519-28A44F87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AEF6D-9F28-425C-B51D-BDB96AB4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D68DF-73C9-4FFC-9329-970FE06A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45E8E-F187-4107-898C-4B042F6B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83A44-E823-4F48-8965-3F548155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7034D9-06DC-4C7C-A648-814B8B42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162FF-7CBA-4DB9-8C31-E24D3A2C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D24C-F45C-4901-A0E3-1C27674E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52EB7-E23E-4C4E-BF26-51837E4A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03339-4687-4A7F-96CA-75D82249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CED34-C99A-4E72-85C8-9ABECE2C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C170C-438C-4EA0-B44C-03AA64FB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E35BD-704E-49DB-8C0D-EE8C5D71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0C4F0-8B00-43B7-AA28-3BE89F70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7D344-976B-438D-80DE-1A7644FF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3B7D5-E95D-4128-A553-ED872F88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A6D30-1D9C-4913-A42E-527ADF8D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E549E-A7BB-4109-B75A-799DF683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22E2-1256-4FF3-B9F1-0D5DDFEF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8288E-14E0-485C-BF3D-A2B17424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4D570A-7FA9-4207-A753-A519E81D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3BF63E-D761-4744-920F-3A687B4E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11EDE-8878-4DCE-8D6A-3E5ABDA8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CDD3B-4543-4B9E-9D4C-65EAEA67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96926-D6C1-474D-BA77-DBCD2560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6EB43-C55A-45AD-A1FA-076878D7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939925-EF7A-4590-B28B-19A1762A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884026-7318-45B2-9F70-03381FE4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9F434E-E990-45AD-8347-B0FB5E0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AC9F-40E8-42DD-AFD0-CD4742E8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BD9338-4AC7-4344-BC11-7BE9D699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29684-A135-4120-B54C-447CD5A2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A1BD3-C555-442C-8AD7-3AEA1BDA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C57E6-ED6E-4C60-B9EB-EB26AF22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631268-0914-41CA-A0E4-0AEC49F8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A27BC1-0AE8-4816-9022-13FAC10E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1F407-8CA1-4F8F-A6E7-AB935202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A81283-E862-438E-8D0F-19B304FB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BA7EE-902D-4FE5-B3F3-BC6E5380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BC6F4-A64A-43AF-92A0-B726D6A6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DA4-3034-4D53-BC77-978EB171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06ED-8C1F-4E61-B02C-BA85B1A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5B15F-8017-4B7A-AEFA-A8A85F9D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CB5C4-898D-48FE-8C05-8F9E692D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773F0C-E1EF-4A51-AD4D-47EF2F49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9ABD3-799A-4757-982A-A0E12CC4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F1DCC-D5B4-47D7-9836-8D5D5A12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0DE8F-6B76-4ACC-B5A5-E59D7080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15457-E1EE-4202-8AFD-9639D87B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91F52-0B7A-4AC3-A08C-515A10D5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261A29-16B0-47FE-96BE-A9042466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12C52-8577-4040-BD76-6B719DD6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B3C5-0239-4CB6-B07E-FD00C437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20428-6948-405A-AB44-F146DA8B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38817-D43E-42F4-9DC1-DC8AF56F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A3EB49-E723-408E-B016-8F7A4BCB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7074BB-6D75-49D3-8ACA-04FBCC1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92B01-B698-4AA9-93BB-66CAAB7E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EF422-1EB7-4956-96EA-59A7D553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4C5C2F-C496-4432-8924-F62C9D85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F05E13-495E-41EE-92FF-E995ECD6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DF454-63BE-4A1A-8DB7-40BDAB38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45D53-5CE3-412F-9B49-5ABB6E71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457C-C47F-4D2E-B9FE-67A15733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FB65C-34F7-43FE-A60A-38F98809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BB22D8-1740-4412-9805-CD02BCF7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FB6982-CE98-438B-963E-76A44B76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D8D45-93CF-4B02-B8A0-D28F1189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69B56-75B9-4437-A5B6-3A00AACB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CD4B2D-FB2C-4325-986C-DC817C22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75C06F-A241-4B67-AB11-17E33C83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E367E3-801B-411D-A8E9-3F0BE79D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F8492-D254-49B3-B5C7-86FC5FF6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0ECFD9-227A-4DFE-B515-7A084C76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4187-A314-4945-9288-B547FE5B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019097-0C42-440E-9DDB-EBBD7B0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DD9D5-E74F-4DA2-A91C-44102289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E326BE-A1C9-4993-B30E-EF89D2B9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38D263-88C8-412A-885D-C73120C9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417231-0FA5-448B-B24D-A60F2132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BFAB1-BFB3-4B99-9E16-AAF950B4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265E5E-B156-4170-AD38-A9D8DF65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0123A2-677A-49E4-AF9D-11EE9BF5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C17309-2876-4295-827E-E9B866C9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CD508A-65A2-4B5A-B0A9-DCF80B67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7A44-822E-4516-ADE4-6E580953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FFEE80-65D5-4B17-B279-9D03450F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DD536-FE90-4BE0-AA8B-AE9F4D4D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14DB26-21B2-4F67-A0BD-5254A0C2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78B5F-4ADC-4074-BB66-3CCAD12A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54A1E6-4992-4A16-906D-2F38CB33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70E023-6D73-4193-AC93-D8CDF093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9570F-8835-4C2D-B504-8B0DFF49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FD7480-FDE5-4389-B331-97BB122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46FEA7-EFFE-42B3-94E8-3BBD687A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E71E85-F39F-42DE-A3BC-2D1C9503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E310-75EA-40DE-8BD2-FCB68DD5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840BA9-A2C6-42B7-8FBE-C46C7F8F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AB5928-EB21-44D1-860F-9AD258A1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D6325-8009-4A72-86ED-25D395D8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E2D5-D732-4B9E-959B-654A894A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41A2-9431-44CB-886A-8E605938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EE37-3650-4409-B184-F862A7B1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05F1-1855-4603-A573-5BC88EBA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BA5-FB51-4183-BAE5-F1FE7BAC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DCBCD-77BA-4932-BFEE-D8B2653D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EB3C-8FC9-43A0-BC94-6FF8FBF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84866-2DBD-43B2-8815-51969403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C461-27E0-41C5-8753-77D5C9D7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89F6-1F00-44A6-9D9F-019E9A9B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180A-CF22-4F2A-8C87-86659359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67EB-70B3-486C-AE62-8693A1FA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B472E-DC36-4A56-8ACF-D7C65B92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4B50E-F5F5-4B80-B4F9-0A056CA8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D2A3-E1F8-4D4A-9BD8-97D436D0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F7A-6E81-459B-8198-D775B5C0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3A3F2-3376-41D1-AA75-A191E095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B69A-C014-4AB6-BFCC-08624DF2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30ACA-2388-42F2-B043-04F452A9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045F5-365A-4D85-9B19-F1A1827F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21D04-CC63-469A-8866-B0FC51A9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687E-49A7-4972-8720-699272E0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49B38-5840-48FD-86E5-804CF738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1B1B-877A-4271-8C80-211641F1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98A2-5359-4AD8-B75C-A80A8F37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EBF9-C07C-4ACE-9A5E-428F3959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B4C-02D4-4E26-8312-0F5DBF9C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3D770-AB6F-4604-AE14-D71BB3EC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2EEDD-897B-4B4D-9A94-779131E8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809F2-1026-4E37-9C8A-0FD1C9A3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EB609-1CAE-4D61-829C-56D6B4C8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44AAA-500D-4016-BF57-DF592475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C44C6-3B8C-4B50-BDB6-C9B8AB15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C7AAD-9D8E-4401-A2C9-7ADA43EC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3530-1941-404E-8E16-D50CBCCE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505B0-ECE8-4017-A26D-0248E93E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F93A1-0095-4221-8915-312A9158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931-E122-4531-94D3-3D988126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CA49E-3BE7-4EFF-B3D0-25B66D9D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9C26C-0003-4B3F-B43E-74988580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38486-ECF0-4273-BE0D-D5A83C57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9359A-CAAA-43ED-B8AE-73E2DED6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87EA3-8315-4117-AD19-95B1369C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A13B-9749-434F-8382-1CD02E09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FCE9D-F209-4587-A661-77B7F79A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627CF-CDD8-41C4-A838-CFEE906A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BAA98-6C72-4B6E-BB3F-B4CF2117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CDBE3-3DAB-471B-981C-C4F1736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DAF-1F02-4A05-99BA-C24E984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FC5E1-CF65-412B-B576-BCB09C64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B5864-5264-42D1-B28A-9639084F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371F-429B-4DCC-BE22-B6F6EE64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ECC06-C9FB-4217-A123-2C9E80F5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85D3D-956F-43FD-AC6F-DD479481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121DF-BA95-4D52-BA8A-3BF98928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C0608-ACED-4524-8B37-FD309386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01EC5-7E52-41E5-9220-35441833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5B49F-7810-41F5-9175-10933CF5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558E9-7D49-4FE1-B67B-75CF1F13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30C-1AF3-438B-AE02-61F2A0A3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B6292-6E01-4F2E-A67A-A9209E05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9DA11-A2FB-4113-AE99-621D3B90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BFBFA-E118-4C91-90A5-A75DFB1B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2F42E-65B3-4EE5-9923-39A3E99A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A4356-834B-4145-BD53-BEB86B0F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AA359-F52E-4647-90D0-2AFE818C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452CD-6B4B-4B58-9174-E9E51984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37B68-F901-4506-B6BD-083F09BB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59F8C-8AA8-482E-A8F9-206A0DFA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F6A8F-E066-4E36-B81F-0A44E3C8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D0B-293F-4BF6-96C4-B954E9C9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7AA23-3383-49B9-B44F-775B434F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A09F1-6B6C-491C-A6C3-E5565078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A56AF-3558-45DA-BB9B-B9E37CF2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22657-14AA-474A-BD4B-EFE73004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C457D-108B-4841-9003-5CABB214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63506-CA5B-4603-8CC1-DD958D0E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44FAC-9606-42F3-B700-E77ED9C0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9B671-F518-4C54-BEA0-8FA17DB1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1DDB3-97C7-4109-9322-9C2119B3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1FF3B-0B29-40A7-B478-712BD4C0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36D5-F1AE-4B60-A092-AD59BAC28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8ED0-ADFD-441E-A7CE-8A57CE2B19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61CF-6083-4155-8408-F0809450FA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8812-7351-4C18-A44E-ACEC15D442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8E72-4EE6-47E0-A741-ACA0B9C37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A5A0-9184-4C61-8EC2-0893889313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CD07-308C-4A68-8509-6CC90027E4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EE82-7E5A-42B5-B41B-9C5009B1D9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049-0752-4BC1-863F-CFB37EEAED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7E95-2B60-4171-BC0E-9E873DAF5A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8858-8E31-4222-8BDC-384079217D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85AC-1367-446D-91FB-3C42603810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5995-3CEE-4798-92BA-2B1910EE74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F4B2-F7C0-4079-AC70-F9C33985E1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7DDE-0050-4EA6-B7F6-9C214BBB28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E81D-CCB3-4909-A78F-36E1E30D4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B7DA-7039-45F2-B23A-6AE744B12E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484C-E0CB-4312-A954-6F1C964BE2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0861-A535-4834-8B32-321172C5C1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84D6-4593-425F-9719-E5AF2A2B7A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455A-7405-4D32-B21A-19839E4371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6B24-5969-4294-86B9-1308543F95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18FA-1684-4159-9361-730B715F8D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6565-E7FA-447F-9D92-F3CAF827C3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04CD-AD00-4DC6-9F66-BFB29F149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37E3-4107-48CF-87CB-94B6E0B903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FDFF-BD0C-479B-A795-DD0B96723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740F-3187-4731-899A-9AE05797F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B405-7C99-448D-9199-080448C3EF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7F9E-028A-4A9E-8EC5-36A067695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916C-A87B-4055-A1AC-F947339363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999F-077B-4C5E-A485-982FEA1EA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1509-67E0-4D15-8049-568756D5D7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3B5F-1251-4908-8DC2-8FAD138F0B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DB44-89B3-4E8C-9025-9679C83158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0226-BFAF-4E2B-BCDD-EFEE63732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3CF5-C989-4540-BFE1-E7C4E86155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8846-7298-45E8-9A20-C4D827843A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6A30-0DF7-4A7A-80BD-54CC89C01F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D283-8066-4B16-9A95-60E8F7880F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5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29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895320" y="3138480"/>
            <a:ext cx="73533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343080" y="714240"/>
            <a:ext cx="8458200" cy="60962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285840" y="3868560"/>
            <a:ext cx="8786880" cy="735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285840" y="46083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285840" y="508644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285840" y="55371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285840" y="6072120"/>
            <a:ext cx="87868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500040" y="741240"/>
            <a:ext cx="8223120" cy="6072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2"/>
          <a:stretch/>
        </p:blipFill>
        <p:spPr>
          <a:xfrm>
            <a:off x="285840" y="703440"/>
            <a:ext cx="8786880" cy="4251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3"/>
          <a:stretch/>
        </p:blipFill>
        <p:spPr>
          <a:xfrm>
            <a:off x="285840" y="1214280"/>
            <a:ext cx="8786880" cy="6876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4"/>
          <a:stretch/>
        </p:blipFill>
        <p:spPr>
          <a:xfrm>
            <a:off x="285840" y="198900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5"/>
          <a:stretch/>
        </p:blipFill>
        <p:spPr>
          <a:xfrm>
            <a:off x="5869080" y="4092480"/>
            <a:ext cx="2781360" cy="26956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6"/>
          <a:stretch/>
        </p:blipFill>
        <p:spPr>
          <a:xfrm>
            <a:off x="285840" y="4148280"/>
            <a:ext cx="5643360" cy="4237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7"/>
          <a:stretch/>
        </p:blipFill>
        <p:spPr>
          <a:xfrm>
            <a:off x="285840" y="4576680"/>
            <a:ext cx="5643360" cy="4240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8"/>
          <a:stretch/>
        </p:blipFill>
        <p:spPr>
          <a:xfrm>
            <a:off x="285840" y="5005440"/>
            <a:ext cx="5643360" cy="4237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9"/>
          <a:stretch/>
        </p:blipFill>
        <p:spPr>
          <a:xfrm>
            <a:off x="285840" y="5465880"/>
            <a:ext cx="5643360" cy="4237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10"/>
          <a:stretch/>
        </p:blipFill>
        <p:spPr>
          <a:xfrm>
            <a:off x="285840" y="5894280"/>
            <a:ext cx="5643360" cy="4240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11"/>
          <a:stretch/>
        </p:blipFill>
        <p:spPr>
          <a:xfrm>
            <a:off x="285840" y="6311880"/>
            <a:ext cx="564336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785880" y="857160"/>
            <a:ext cx="7819920" cy="21430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2" descr=""/>
          <p:cNvPicPr/>
          <p:nvPr/>
        </p:nvPicPr>
        <p:blipFill>
          <a:blip r:embed="rId2"/>
          <a:stretch/>
        </p:blipFill>
        <p:spPr>
          <a:xfrm>
            <a:off x="285840" y="3571920"/>
            <a:ext cx="8391600" cy="3171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3"/>
          <a:stretch/>
        </p:blipFill>
        <p:spPr>
          <a:xfrm>
            <a:off x="285840" y="8967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4"/>
          <a:stretch/>
        </p:blipFill>
        <p:spPr>
          <a:xfrm>
            <a:off x="285840" y="1376280"/>
            <a:ext cx="8786880" cy="7779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5"/>
          <a:stretch/>
        </p:blipFill>
        <p:spPr>
          <a:xfrm>
            <a:off x="285840" y="2212920"/>
            <a:ext cx="8786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2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7867800" cy="54385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2"/>
          <a:stretch/>
        </p:blipFill>
        <p:spPr>
          <a:xfrm>
            <a:off x="285840" y="108252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3"/>
          <a:stretch/>
        </p:blipFill>
        <p:spPr>
          <a:xfrm>
            <a:off x="285840" y="155088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4"/>
          <a:stretch/>
        </p:blipFill>
        <p:spPr>
          <a:xfrm>
            <a:off x="285840" y="200016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5"/>
          <a:stretch/>
        </p:blipFill>
        <p:spPr>
          <a:xfrm>
            <a:off x="285840" y="244008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6"/>
          <a:stretch/>
        </p:blipFill>
        <p:spPr>
          <a:xfrm>
            <a:off x="285840" y="2897280"/>
            <a:ext cx="5286240" cy="4237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7"/>
          <a:stretch/>
        </p:blipFill>
        <p:spPr>
          <a:xfrm>
            <a:off x="285840" y="332568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8"/>
          <a:stretch/>
        </p:blipFill>
        <p:spPr>
          <a:xfrm>
            <a:off x="285840" y="3740040"/>
            <a:ext cx="5286240" cy="4240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"/>
          <p:cNvPicPr/>
          <p:nvPr/>
        </p:nvPicPr>
        <p:blipFill>
          <a:blip r:embed="rId9"/>
          <a:stretch/>
        </p:blipFill>
        <p:spPr>
          <a:xfrm>
            <a:off x="5765760" y="979560"/>
            <a:ext cx="2685960" cy="35146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10"/>
          <a:stretch/>
        </p:blipFill>
        <p:spPr>
          <a:xfrm>
            <a:off x="285840" y="4229280"/>
            <a:ext cx="5429160" cy="4251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11"/>
          <a:stretch/>
        </p:blipFill>
        <p:spPr>
          <a:xfrm>
            <a:off x="285840" y="465768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12"/>
          <a:stretch/>
        </p:blipFill>
        <p:spPr>
          <a:xfrm>
            <a:off x="285840" y="50976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13"/>
          <a:stretch/>
        </p:blipFill>
        <p:spPr>
          <a:xfrm>
            <a:off x="285840" y="55260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14"/>
          <a:stretch/>
        </p:blipFill>
        <p:spPr>
          <a:xfrm>
            <a:off x="285840" y="6014880"/>
            <a:ext cx="87868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2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Picture 1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639200" cy="16765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2" descr=""/>
          <p:cNvPicPr/>
          <p:nvPr/>
        </p:nvPicPr>
        <p:blipFill>
          <a:blip r:embed="rId2"/>
          <a:stretch/>
        </p:blipFill>
        <p:spPr>
          <a:xfrm>
            <a:off x="285840" y="2786040"/>
            <a:ext cx="8420040" cy="40006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3"/>
          <a:stretch/>
        </p:blipFill>
        <p:spPr>
          <a:xfrm>
            <a:off x="285840" y="785880"/>
            <a:ext cx="8786880" cy="8269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4"/>
          <a:stretch/>
        </p:blipFill>
        <p:spPr>
          <a:xfrm>
            <a:off x="285840" y="1601640"/>
            <a:ext cx="878688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Picture 2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829640" cy="57340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2"/>
          <a:stretch/>
        </p:blipFill>
        <p:spPr>
          <a:xfrm>
            <a:off x="285840" y="917640"/>
            <a:ext cx="8786880" cy="32130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3"/>
          <a:stretch/>
        </p:blipFill>
        <p:spPr>
          <a:xfrm>
            <a:off x="285840" y="4130640"/>
            <a:ext cx="8786880" cy="7048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4"/>
          <a:stretch/>
        </p:blipFill>
        <p:spPr>
          <a:xfrm>
            <a:off x="285840" y="48830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5"/>
          <a:stretch/>
        </p:blipFill>
        <p:spPr>
          <a:xfrm>
            <a:off x="285840" y="5311800"/>
            <a:ext cx="8786880" cy="500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6"/>
          <a:stretch/>
        </p:blipFill>
        <p:spPr>
          <a:xfrm>
            <a:off x="285840" y="578016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7"/>
          <a:stretch/>
        </p:blipFill>
        <p:spPr>
          <a:xfrm>
            <a:off x="285840" y="6275520"/>
            <a:ext cx="878688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1" descr=""/>
          <p:cNvPicPr/>
          <p:nvPr/>
        </p:nvPicPr>
        <p:blipFill>
          <a:blip r:embed="rId1"/>
          <a:stretch/>
        </p:blipFill>
        <p:spPr>
          <a:xfrm>
            <a:off x="714240" y="857160"/>
            <a:ext cx="7763040" cy="58294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2"/>
          <a:stretch/>
        </p:blipFill>
        <p:spPr>
          <a:xfrm>
            <a:off x="285840" y="84600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3"/>
          <a:stretch/>
        </p:blipFill>
        <p:spPr>
          <a:xfrm>
            <a:off x="285840" y="12654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4"/>
          <a:stretch/>
        </p:blipFill>
        <p:spPr>
          <a:xfrm>
            <a:off x="285840" y="174456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5"/>
          <a:stretch/>
        </p:blipFill>
        <p:spPr>
          <a:xfrm>
            <a:off x="285840" y="21938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6"/>
          <a:stretch/>
        </p:blipFill>
        <p:spPr>
          <a:xfrm>
            <a:off x="285840" y="26542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7"/>
          <a:stretch/>
        </p:blipFill>
        <p:spPr>
          <a:xfrm>
            <a:off x="285840" y="30718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8"/>
          <a:stretch/>
        </p:blipFill>
        <p:spPr>
          <a:xfrm>
            <a:off x="285840" y="3551400"/>
            <a:ext cx="4929120" cy="4237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9"/>
          <a:stretch/>
        </p:blipFill>
        <p:spPr>
          <a:xfrm>
            <a:off x="5286240" y="3511440"/>
            <a:ext cx="3786480" cy="29894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10"/>
          <a:stretch/>
        </p:blipFill>
        <p:spPr>
          <a:xfrm>
            <a:off x="285840" y="3994200"/>
            <a:ext cx="4786200" cy="4237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11"/>
          <a:stretch/>
        </p:blipFill>
        <p:spPr>
          <a:xfrm>
            <a:off x="285840" y="4394160"/>
            <a:ext cx="4786200" cy="424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12"/>
          <a:stretch/>
        </p:blipFill>
        <p:spPr>
          <a:xfrm>
            <a:off x="285840" y="4989600"/>
            <a:ext cx="4786200" cy="8128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13"/>
          <a:stretch/>
        </p:blipFill>
        <p:spPr>
          <a:xfrm>
            <a:off x="285840" y="5791320"/>
            <a:ext cx="4786200" cy="4237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14"/>
          <a:stretch/>
        </p:blipFill>
        <p:spPr>
          <a:xfrm>
            <a:off x="285840" y="6240600"/>
            <a:ext cx="478620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1" descr=""/>
          <p:cNvPicPr/>
          <p:nvPr/>
        </p:nvPicPr>
        <p:blipFill>
          <a:blip r:embed="rId1"/>
          <a:stretch/>
        </p:blipFill>
        <p:spPr>
          <a:xfrm>
            <a:off x="642960" y="804960"/>
            <a:ext cx="7858080" cy="59817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2"/>
          <a:stretch/>
        </p:blipFill>
        <p:spPr>
          <a:xfrm>
            <a:off x="285840" y="785880"/>
            <a:ext cx="8786880" cy="7380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3"/>
          <a:stretch/>
        </p:blipFill>
        <p:spPr>
          <a:xfrm>
            <a:off x="285840" y="1654200"/>
            <a:ext cx="8786880" cy="6620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4"/>
          <a:stretch/>
        </p:blipFill>
        <p:spPr>
          <a:xfrm>
            <a:off x="285840" y="2489040"/>
            <a:ext cx="8786880" cy="6638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5"/>
          <a:stretch/>
        </p:blipFill>
        <p:spPr>
          <a:xfrm>
            <a:off x="285840" y="3357720"/>
            <a:ext cx="8786880" cy="6634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6"/>
          <a:stretch/>
        </p:blipFill>
        <p:spPr>
          <a:xfrm>
            <a:off x="285840" y="4240080"/>
            <a:ext cx="8786880" cy="762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7"/>
          <a:stretch/>
        </p:blipFill>
        <p:spPr>
          <a:xfrm>
            <a:off x="285840" y="5143680"/>
            <a:ext cx="8786880" cy="6634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8"/>
          <a:stretch/>
        </p:blipFill>
        <p:spPr>
          <a:xfrm>
            <a:off x="285840" y="5989680"/>
            <a:ext cx="878688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318960" y="1000080"/>
            <a:ext cx="8506080" cy="56102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943760" y="1479600"/>
            <a:ext cx="465120" cy="395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943760" y="4054320"/>
            <a:ext cx="465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1" descr=""/>
          <p:cNvPicPr/>
          <p:nvPr/>
        </p:nvPicPr>
        <p:blipFill>
          <a:blip r:embed="rId1"/>
          <a:stretch/>
        </p:blipFill>
        <p:spPr>
          <a:xfrm>
            <a:off x="314280" y="942840"/>
            <a:ext cx="8515440" cy="57722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2"/>
          <a:stretch/>
        </p:blipFill>
        <p:spPr>
          <a:xfrm>
            <a:off x="7929720" y="114300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3"/>
          <a:stretch/>
        </p:blipFill>
        <p:spPr>
          <a:xfrm>
            <a:off x="7858080" y="3603600"/>
            <a:ext cx="465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357120" y="1914480"/>
            <a:ext cx="8429760" cy="3029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2"/>
          <a:stretch/>
        </p:blipFill>
        <p:spPr>
          <a:xfrm>
            <a:off x="7943760" y="2440080"/>
            <a:ext cx="465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347760" y="785880"/>
            <a:ext cx="8448480" cy="6057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2"/>
          <a:stretch/>
        </p:blipFill>
        <p:spPr>
          <a:xfrm>
            <a:off x="7943760" y="178596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7943760" y="553248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8429760" cy="15048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419040" y="2643120"/>
            <a:ext cx="8410680" cy="3714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8035920" y="3268800"/>
            <a:ext cx="465120" cy="395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4"/>
          <a:stretch/>
        </p:blipFill>
        <p:spPr>
          <a:xfrm>
            <a:off x="3000240" y="585792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343080" y="976320"/>
            <a:ext cx="8458200" cy="55245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2643120" cy="397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3"/>
          <a:stretch/>
        </p:blipFill>
        <p:spPr>
          <a:xfrm>
            <a:off x="6643800" y="2000160"/>
            <a:ext cx="857160" cy="3970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4"/>
          <a:stretch/>
        </p:blipFill>
        <p:spPr>
          <a:xfrm>
            <a:off x="3571920" y="2500200"/>
            <a:ext cx="857160" cy="3970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5"/>
          <a:stretch/>
        </p:blipFill>
        <p:spPr>
          <a:xfrm>
            <a:off x="1785960" y="6072120"/>
            <a:ext cx="257184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357120" y="728640"/>
            <a:ext cx="8487000" cy="6058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3214800" y="1785960"/>
            <a:ext cx="1857240" cy="3967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3"/>
          <a:stretch/>
        </p:blipFill>
        <p:spPr>
          <a:xfrm>
            <a:off x="6297480" y="4378320"/>
            <a:ext cx="100008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590400" y="971640"/>
            <a:ext cx="7963200" cy="57434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2"/>
          <a:stretch/>
        </p:blipFill>
        <p:spPr>
          <a:xfrm>
            <a:off x="785880" y="3643200"/>
            <a:ext cx="2714400" cy="7146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3"/>
          <a:stretch/>
        </p:blipFill>
        <p:spPr>
          <a:xfrm>
            <a:off x="785880" y="4521240"/>
            <a:ext cx="3643200" cy="396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4"/>
          <a:stretch/>
        </p:blipFill>
        <p:spPr>
          <a:xfrm>
            <a:off x="5207040" y="3527280"/>
            <a:ext cx="3381480" cy="32576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5"/>
          <a:stretch/>
        </p:blipFill>
        <p:spPr>
          <a:xfrm>
            <a:off x="285840" y="5005440"/>
            <a:ext cx="4143240" cy="4237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6"/>
          <a:stretch/>
        </p:blipFill>
        <p:spPr>
          <a:xfrm>
            <a:off x="285840" y="5486400"/>
            <a:ext cx="414324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45:10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